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07B2-4EF7-4324-B013-D5A31F4F94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F21-963B-466A-ADDC-657F8F03B1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A2B-4BB2-4599-893E-03FF75A6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61F-1DF0-417E-8199-044D85E4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21D-CC99-4862-A463-84B4FC89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324-71AD-4043-94D0-5D2FF952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672-2F7D-4835-AB51-3C6E7E83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BB6-5F96-4CFE-A395-02C70059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EAD-1F6E-4AB7-B264-F3F7CF2C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434-2F0D-4AB9-9DDD-E1B2F86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C25-52B6-4AA4-B4DA-FEF08F3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2E0-615B-419B-AA03-67AC0E4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11C-8951-4228-BAE5-3F2054A0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5B7-DE31-420B-9C30-9DA0F8F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3C56-780C-4236-B649-49B7A3E023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4284720" y="134136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16000" y="2708280"/>
            <a:ext cx="69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łączanie w skład państwa na wschodzie jedynie terenów zamieszkanych </a:t>
            </a:r>
            <a:br>
              <a:rPr sz="2800"/>
            </a:b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 większości przez Polaków aby możliwa była pełna asymilacja mieszkającej ten ludności (powrót lub korzystna korekta granic przedrozbiorowych na zachodzie oraz do granic z 1792 na wschodz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1:31:00Z</dcterms:created>
  <dc:creator>rjuraszczyk</dc:creator>
  <dc:description/>
  <dc:language>en-US</dc:language>
  <cp:lastModifiedBy>IB</cp:lastModifiedBy>
  <dcterms:modified xsi:type="dcterms:W3CDTF">2013-03-14T17:14:47Z</dcterms:modified>
  <cp:revision>6</cp:revision>
  <dc:subject/>
  <dc:title>Koncepcja granic Romana Dmowskiego</dc:title>
</cp:coreProperties>
</file>